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310-C03E-4987-A2B4-8E332AC7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BF0-49F9-4AA6-9DE8-B3F05168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BC1-DF27-46A6-BB84-927C4936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31F-B99B-4FAF-944D-4D0A8A6D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1AE0-FCDD-483B-9B59-E154F195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6450-C338-443F-B0D8-D95F642A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67A9-39DF-482F-B4F2-5B356E55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48B7-EB07-404F-9CD3-D73020B4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03FD-4ECA-418C-BC42-89D7017D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1AD8-26EC-4295-8E07-1B494359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4D94-221F-4C60-9746-842370A4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504-B514-4344-B72C-AE160608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E72F-84F7-47C8-A415-0BB372E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5F90-958C-4E72-950C-BA3445F1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3F19-A165-4CBE-8496-E167E97A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20B1-6A8B-4030-912A-97886FFF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F47D-4E5D-439B-98C0-9E6F7A49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D6F-0103-4B02-998E-837703AA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FD7-7D3C-4C8F-A81B-FD379896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52D-F075-4028-9138-BC9C3227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D30-0B0E-450D-96FB-46B9BF7A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489-7DB9-4CAE-8D45-51CC90C0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DDF-E11E-485C-913B-EB4BD18B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49C-EC55-40D3-A972-E3040604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1060-EF8F-4271-B5CD-1F3344A5CC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C8B6-5B08-4312-8056-801921C58D4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12536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Работу выполнила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л. руководитель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СОШ № 9</a:t>
            </a:r>
            <a:br>
              <a:rPr sz="5400"/>
            </a:br>
            <a:r>
              <a:rPr b="1" lang="ru-RU" sz="6600" spc="-1" strike="noStrike" u="sng">
                <a:solidFill>
                  <a:srgbClr val="ffffb7"/>
                </a:solidFill>
                <a:uFillTx/>
                <a:latin typeface="Arial Black"/>
              </a:rPr>
              <a:t>Хасаншина Э.Р.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прочь отведать и ключевой водицы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SAM_1945"/>
          <p:cNvPicPr/>
          <p:nvPr/>
        </p:nvPicPr>
        <p:blipFill>
          <a:blip r:embed="rId1"/>
          <a:stretch/>
        </p:blipFill>
        <p:spPr>
          <a:xfrm>
            <a:off x="0" y="907920"/>
            <a:ext cx="3200400" cy="3714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SAM_1948"/>
          <p:cNvPicPr/>
          <p:nvPr/>
        </p:nvPicPr>
        <p:blipFill>
          <a:blip r:embed="rId2"/>
          <a:stretch/>
        </p:blipFill>
        <p:spPr>
          <a:xfrm>
            <a:off x="2987640" y="907920"/>
            <a:ext cx="4176720" cy="367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AM_1969"/>
          <p:cNvPicPr/>
          <p:nvPr/>
        </p:nvPicPr>
        <p:blipFill>
          <a:blip r:embed="rId3"/>
          <a:stretch/>
        </p:blipFill>
        <p:spPr>
          <a:xfrm>
            <a:off x="5943600" y="907920"/>
            <a:ext cx="3200400" cy="3672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SAM_1949"/>
          <p:cNvPicPr/>
          <p:nvPr/>
        </p:nvPicPr>
        <p:blipFill>
          <a:blip r:embed="rId4"/>
          <a:stretch/>
        </p:blipFill>
        <p:spPr>
          <a:xfrm>
            <a:off x="0" y="3657600"/>
            <a:ext cx="3619440" cy="320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SAM_1950"/>
          <p:cNvPicPr/>
          <p:nvPr/>
        </p:nvPicPr>
        <p:blipFill>
          <a:blip r:embed="rId5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SAM_1943"/>
          <p:cNvPicPr/>
          <p:nvPr/>
        </p:nvPicPr>
        <p:blipFill>
          <a:blip r:embed="rId6"/>
          <a:stretch/>
        </p:blipFill>
        <p:spPr>
          <a:xfrm>
            <a:off x="2484360" y="3657600"/>
            <a:ext cx="3867120" cy="3200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SAM_1966"/>
          <p:cNvPicPr/>
          <p:nvPr/>
        </p:nvPicPr>
        <p:blipFill>
          <a:blip r:embed="rId7"/>
          <a:stretch/>
        </p:blipFill>
        <p:spPr>
          <a:xfrm>
            <a:off x="1908000" y="1628640"/>
            <a:ext cx="54468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7632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оставляем без внимания духов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SAM_3257"/>
          <p:cNvPicPr/>
          <p:nvPr/>
        </p:nvPicPr>
        <p:blipFill>
          <a:blip r:embed="rId1"/>
          <a:stretch/>
        </p:blipFill>
        <p:spPr>
          <a:xfrm>
            <a:off x="0" y="1052640"/>
            <a:ext cx="4788000" cy="3590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SAM_2715"/>
          <p:cNvPicPr/>
          <p:nvPr/>
        </p:nvPicPr>
        <p:blipFill>
          <a:blip r:embed="rId2"/>
          <a:stretch/>
        </p:blipFill>
        <p:spPr>
          <a:xfrm>
            <a:off x="2411280" y="1881360"/>
            <a:ext cx="4699080" cy="3524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SAM_1420"/>
          <p:cNvPicPr/>
          <p:nvPr/>
        </p:nvPicPr>
        <p:blipFill>
          <a:blip r:embed="rId3"/>
          <a:stretch/>
        </p:blipFill>
        <p:spPr>
          <a:xfrm>
            <a:off x="4516560" y="3387600"/>
            <a:ext cx="4627440" cy="34704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5867280" y="1125360"/>
            <a:ext cx="302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50920" y="5734080"/>
            <a:ext cx="399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стетические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8796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 пункт –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700360" y="0"/>
            <a:ext cx="61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«социальное благополуч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7" descr="SAM_3491"/>
          <p:cNvPicPr/>
          <p:nvPr/>
        </p:nvPicPr>
        <p:blipFill>
          <a:blip r:embed="rId1"/>
          <a:stretch/>
        </p:blipFill>
        <p:spPr>
          <a:xfrm>
            <a:off x="324000" y="765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SAM_3492"/>
          <p:cNvPicPr/>
          <p:nvPr/>
        </p:nvPicPr>
        <p:blipFill>
          <a:blip r:embed="rId2"/>
          <a:stretch/>
        </p:blipFill>
        <p:spPr>
          <a:xfrm>
            <a:off x="4572000" y="765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SAM_3501"/>
          <p:cNvPicPr/>
          <p:nvPr/>
        </p:nvPicPr>
        <p:blipFill>
          <a:blip r:embed="rId3"/>
          <a:stretch/>
        </p:blipFill>
        <p:spPr>
          <a:xfrm>
            <a:off x="324000" y="306864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SAM_3500"/>
          <p:cNvPicPr/>
          <p:nvPr/>
        </p:nvPicPr>
        <p:blipFill>
          <a:blip r:embed="rId4"/>
          <a:stretch/>
        </p:blipFill>
        <p:spPr>
          <a:xfrm>
            <a:off x="4572000" y="306864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2"/>
          <p:cNvSpPr/>
          <p:nvPr/>
        </p:nvSpPr>
        <p:spPr>
          <a:xfrm>
            <a:off x="324000" y="621036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занимаемся общественно полезным трудо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8512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И просто любим хорошо отдохнуть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Picture 4" descr="SAM_3405"/>
          <p:cNvPicPr/>
          <p:nvPr/>
        </p:nvPicPr>
        <p:blipFill>
          <a:blip r:embed="rId1"/>
          <a:stretch/>
        </p:blipFill>
        <p:spPr>
          <a:xfrm>
            <a:off x="324000" y="105264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SAM_3456"/>
          <p:cNvPicPr/>
          <p:nvPr/>
        </p:nvPicPr>
        <p:blipFill>
          <a:blip r:embed="rId2"/>
          <a:stretch/>
        </p:blipFill>
        <p:spPr>
          <a:xfrm>
            <a:off x="4572000" y="3500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SAM_3428"/>
          <p:cNvPicPr/>
          <p:nvPr/>
        </p:nvPicPr>
        <p:blipFill>
          <a:blip r:embed="rId3"/>
          <a:stretch/>
        </p:blipFill>
        <p:spPr>
          <a:xfrm>
            <a:off x="1116000" y="1341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91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ы близки к нашей цел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5229360"/>
            <a:ext cx="80071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Е НАМЕРЕНЫ ОСТАНАВЛИВ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2484360" y="6021360"/>
            <a:ext cx="431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 ДОСТИГНУТОМ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SAM_3244"/>
          <p:cNvPicPr/>
          <p:nvPr/>
        </p:nvPicPr>
        <p:blipFill>
          <a:blip r:embed="rId1"/>
          <a:stretch/>
        </p:blipFill>
        <p:spPr>
          <a:xfrm>
            <a:off x="1835280" y="12682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ыбор ЗОЖ –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ыбор счастливой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жизн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5" descr="SAM_3509"/>
          <p:cNvPicPr/>
          <p:nvPr/>
        </p:nvPicPr>
        <p:blipFill>
          <a:blip r:embed="rId1"/>
          <a:stretch/>
        </p:blipFill>
        <p:spPr>
          <a:xfrm>
            <a:off x="2195640" y="3068640"/>
            <a:ext cx="46814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692360" y="47628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хотим быт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ДОРОВЫМ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556000" y="4941720"/>
            <a:ext cx="43210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мы прямо идё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намеченной цел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SAM_2625"/>
          <p:cNvPicPr/>
          <p:nvPr/>
        </p:nvPicPr>
        <p:blipFill>
          <a:blip r:embed="rId1"/>
          <a:stretch/>
        </p:blipFill>
        <p:spPr>
          <a:xfrm>
            <a:off x="2627280" y="1413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71640" y="259920"/>
            <a:ext cx="7416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ДОСТИЖЕНИЯ ЕЁ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484360" y="2565360"/>
            <a:ext cx="4321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Arial Black"/>
              </a:rPr>
              <a:t>ЧТ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908000" y="5445000"/>
            <a:ext cx="5256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Arial Black"/>
              </a:rPr>
              <a:t>ЗДОРОВЬЕ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411280" y="4005360"/>
            <a:ext cx="4321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Arial Black"/>
              </a:rPr>
              <a:t>ТАКО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39640" y="1125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ОБХОДИМО ОТВЕТИТЬ НА ВОПРО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124000" y="333000"/>
            <a:ext cx="518472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ff"/>
                </a:solidFill>
                <a:uFillTx/>
                <a:latin typeface="Gill Sans Ultra Bold"/>
              </a:rPr>
              <a:t>Здоровье –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Gill Sans Ultra Bol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635280" y="1413000"/>
            <a:ext cx="1871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ff"/>
                </a:solidFill>
                <a:uFillTx/>
                <a:latin typeface="Gill Sans Ultra Bold"/>
              </a:rPr>
              <a:t>это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Gill Sans Ultra Bol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11280" y="2637000"/>
            <a:ext cx="8137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«состояние полного физического, душевного (психического) и социального благополучия, а не только отсутствие болезней и физических дефектов»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йдемся по всем пунктам определ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6920" y="3716280"/>
            <a:ext cx="6193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намного ближе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79280" y="2349360"/>
            <a:ext cx="73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Может, наша цел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195640" y="5157720"/>
            <a:ext cx="6767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чем нам кажется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26654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1 пункт –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700360" y="0"/>
            <a:ext cx="61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«физическое благополуч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SAM_1708"/>
          <p:cNvPicPr/>
          <p:nvPr/>
        </p:nvPicPr>
        <p:blipFill>
          <a:blip r:embed="rId1"/>
          <a:stretch/>
        </p:blipFill>
        <p:spPr>
          <a:xfrm>
            <a:off x="324000" y="765000"/>
            <a:ext cx="4248000" cy="273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SAM_1715"/>
          <p:cNvPicPr/>
          <p:nvPr/>
        </p:nvPicPr>
        <p:blipFill>
          <a:blip r:embed="rId2"/>
          <a:stretch/>
        </p:blipFill>
        <p:spPr>
          <a:xfrm>
            <a:off x="4572000" y="765000"/>
            <a:ext cx="426708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SAM_2684"/>
          <p:cNvPicPr/>
          <p:nvPr/>
        </p:nvPicPr>
        <p:blipFill>
          <a:blip r:embed="rId3"/>
          <a:stretch/>
        </p:blipFill>
        <p:spPr>
          <a:xfrm>
            <a:off x="0" y="3141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AM_2826"/>
          <p:cNvPicPr/>
          <p:nvPr/>
        </p:nvPicPr>
        <p:blipFill>
          <a:blip r:embed="rId4"/>
          <a:stretch/>
        </p:blipFill>
        <p:spPr>
          <a:xfrm>
            <a:off x="2556000" y="3141720"/>
            <a:ext cx="350496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SAM_2808"/>
          <p:cNvPicPr/>
          <p:nvPr/>
        </p:nvPicPr>
        <p:blipFill>
          <a:blip r:embed="rId5"/>
          <a:stretch/>
        </p:blipFill>
        <p:spPr>
          <a:xfrm>
            <a:off x="4572000" y="3141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1763640" y="6210360"/>
            <a:ext cx="59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b7"/>
                </a:solidFill>
                <a:uFillTx/>
                <a:latin typeface="Arial Black"/>
              </a:rPr>
              <a:t>как трудимся, так и отдых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11592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щаем каток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SAM_3089"/>
          <p:cNvPicPr/>
          <p:nvPr/>
        </p:nvPicPr>
        <p:blipFill>
          <a:blip r:embed="rId1"/>
          <a:stretch/>
        </p:blipFill>
        <p:spPr>
          <a:xfrm>
            <a:off x="539640" y="9810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SAM_3090"/>
          <p:cNvPicPr/>
          <p:nvPr/>
        </p:nvPicPr>
        <p:blipFill>
          <a:blip r:embed="rId2"/>
          <a:stretch/>
        </p:blipFill>
        <p:spPr>
          <a:xfrm>
            <a:off x="4788000" y="2060640"/>
            <a:ext cx="3790800" cy="4392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6012000" y="907920"/>
            <a:ext cx="180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сид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280" y="4941720"/>
            <a:ext cx="4608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а иногда и стои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на коньках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287964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2 пункт –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771640" y="260280"/>
            <a:ext cx="61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 Black"/>
              </a:rPr>
              <a:t>«душевное (психическое) благополуч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SAM_2611"/>
          <p:cNvPicPr/>
          <p:nvPr/>
        </p:nvPicPr>
        <p:blipFill>
          <a:blip r:embed="rId1"/>
          <a:stretch/>
        </p:blipFill>
        <p:spPr>
          <a:xfrm>
            <a:off x="324000" y="1341360"/>
            <a:ext cx="4238640" cy="320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SAM_2613"/>
          <p:cNvPicPr/>
          <p:nvPr/>
        </p:nvPicPr>
        <p:blipFill>
          <a:blip r:embed="rId2"/>
          <a:stretch/>
        </p:blipFill>
        <p:spPr>
          <a:xfrm>
            <a:off x="4572000" y="3357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716360" y="1773360"/>
            <a:ext cx="39610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Elephant"/>
              </a:rPr>
              <a:t>Любим гулять по лесу,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Elephant"/>
              </a:rPr>
              <a:t>дышать свежим воздух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755640" y="4869000"/>
            <a:ext cx="345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Elephant"/>
              </a:rPr>
              <a:t>Кататься на санках…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Elephant"/>
              </a:rPr>
              <a:t>и просто валяться на мягко-мягком снегу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7:21:27Z</dcterms:created>
  <dc:creator>Sam</dc:creator>
  <dc:description/>
  <dc:language>en-US</dc:language>
  <cp:lastModifiedBy>school</cp:lastModifiedBy>
  <dcterms:modified xsi:type="dcterms:W3CDTF">2011-05-31T12:54:58Z</dcterms:modified>
  <cp:revision>6</cp:revision>
  <dc:subject/>
  <dc:title>Выбор ЗОЖ –  выбор счастливой  жизни</dc:title>
</cp:coreProperties>
</file>